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76781-7222-4F66-B4C5-D619E447D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6731D-27D3-46E6-A61D-6C08A211A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53FD9-B999-46A9-A06C-1EDD89D35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B0C09-CE76-4304-9419-8346E6847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0BF94F-8FEE-4FE8-8116-3575964DD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AF6AC2-1C12-4B17-B5E9-BFF1458EA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4BF946-563B-4905-9B58-B998B9102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2061EC-9884-48D8-A0BA-B8D1865E1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248567-0360-4B40-89B2-0F39CC839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BC778D-5A9D-433F-BCBE-ECFED645A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D12E90-B776-4926-8EF9-4CEFFB673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E874B-05B3-4685-93E9-B452C70CC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B7F74C-A2C5-4DB3-8B94-3B076910B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20D63D-CD21-47DA-8F40-ADC3FB392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4F0D88-4A2A-4FD4-A198-5D2E3BD52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B047BF-7ED5-4DFE-915D-0A9BD7677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0C4A52-0CE1-4173-A2EF-8A16BE047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4E8B5-E429-4AF2-83AA-6F6113BA2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E762B-734F-4884-8743-41FB60438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9847E-ABE8-46F0-946E-ACBBD5812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6749C-EEEA-4D39-B0A9-69F6D2023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611BE-C590-4FE8-8E1B-3690E6F85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91548-0D6C-4013-8C1E-DA073A728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3315D-2751-43A3-8B8E-A93ACE74A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6692C-7E9F-4A3F-A450-67C0710BACA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06053-0261-43AB-82E4-DF2FCAE4C67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Enflasyonun Okuma Alışkanlığına Etkisi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Bağımsız Değişken: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flasy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Bağımlı Değişken: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kuma Alışkanlığı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8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8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8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8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Ara Değişkenler: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Çevresel Faktörl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( Arkadaş grupları, aile, okul, medya…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  <a:ea typeface="Arial"/>
              </a:rPr>
              <a:t>• </a:t>
            </a:r>
            <a:r>
              <a:rPr b="0" lang="tr-TR" sz="3200" spc="-1" strike="noStrike">
                <a:solidFill>
                  <a:srgbClr val="ffffff"/>
                </a:solidFill>
                <a:latin typeface="Arial"/>
                <a:ea typeface="Arial"/>
              </a:rPr>
              <a:t>Eğitim Sistem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  <a:ea typeface="Arial"/>
              </a:rPr>
              <a:t>• </a:t>
            </a:r>
            <a:r>
              <a:rPr b="0" lang="tr-TR" sz="3200" spc="-1" strike="noStrike">
                <a:solidFill>
                  <a:srgbClr val="ffffff"/>
                </a:solidFill>
                <a:latin typeface="Arial"/>
                <a:ea typeface="Arial"/>
              </a:rPr>
              <a:t>Sosyo Kültürel Düze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  <a:ea typeface="Arial"/>
              </a:rPr>
              <a:t>• </a:t>
            </a:r>
            <a:r>
              <a:rPr b="0" lang="tr-TR" sz="3200" spc="-1" strike="noStrike">
                <a:solidFill>
                  <a:srgbClr val="ffffff"/>
                </a:solidFill>
                <a:latin typeface="Arial"/>
                <a:ea typeface="Arial"/>
              </a:rPr>
              <a:t>Teknoloji ( Tv, bilgisayar…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8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8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8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8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Düzenleyici Değişkenler: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Medyanın okuma alışkanlığı kazandırmaya yönelik özendirici girişimler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Kitap fiyatlarının düşmes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Enflasyonun istenen seviyeye inmesi sağlanması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2T17:51:06Z</dcterms:created>
  <dc:creator>PERFECT PC1</dc:creator>
  <dc:description/>
  <dc:language>en-US</dc:language>
  <cp:lastModifiedBy>PERFECT PC1</cp:lastModifiedBy>
  <dcterms:modified xsi:type="dcterms:W3CDTF">2010-10-02T18:20:50Z</dcterms:modified>
  <cp:revision>2</cp:revision>
  <dc:subject/>
  <dc:title>Enflasyonun Okuma Alışkanlığına Etkisi</dc:title>
</cp:coreProperties>
</file>